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1E0E-2F5C-4003-8D6F-B829D807F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emplate can be used as a starter file for presenting training materials in a group set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-click on a slide to add sections. Sections can help to organize your slides or facilitate collaboration between multiple auth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s section for delivery notes or to provide additional details for the audience. View these notes in Presentation View during your present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the font size (important for accessibility, visibility, videotaping, and online 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d col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particular attention to the graphs, charts, and text box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at attendees will print in black and white or grayscale. Run a test print to make sure your colors work when printed in pure black and white and graysc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phics, tables, and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t simple: If possible, use consistent, non-distracting styles and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all graphs and 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9EE5-BFD9-4409-A3E4-6A9BF9B7E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30A0-3896-4E05-B6FF-EE39107A07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FDD-FBAD-46A0-8EA9-AE30CECE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75A1-DDCF-4D75-A846-772F3E28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F49-D2EE-4276-8474-49D2CFAB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53C-CE4E-4CBF-BAB5-2C817A24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049-74FC-4222-A2E0-FD77D5B2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2EBC-ECA3-46AF-AE3A-FE19E04B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C71D-ED45-412B-93F2-610F0DAD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9401-9726-4BF8-8C81-FF9D4D76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DA96-AF13-4043-853C-5AC16563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78BD-1BEC-45B7-99EE-DB7A0ECA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D56-0A58-408E-B33A-554B5C8B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2938-397E-4AAB-8037-E141606B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4728-4671-4A63-A1EE-E7690C38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C19D-6F29-409D-862E-41C47CA7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CFFA-82E3-422B-9889-AF9AFE42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DC0A-1C38-459E-89D5-DE756F6F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E483-E585-4B31-ADA3-72858F24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B4D5-66A2-4BF1-AB8B-EFCF733F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874CC-F877-4A97-BEEB-6F9D23F8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17C28-C46C-4128-AEE2-36761C81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11A12-F8F4-46C2-96A1-ADDFDE33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050-02D6-45D3-A028-C64ECC73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04045-D438-4478-8299-093A0212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8576-FD37-4062-9B13-C637D7E3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4E955-32A2-452A-94E6-EF8614BA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E45D7-EA67-4933-A64D-D36FDF23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EA81-CF3E-467F-A356-EEE3E6D1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36F7A-4896-44B0-A7A0-C423E4E1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AA61F-2106-4100-B707-1DCF2E32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3188B-7C73-4199-B3B5-CB3F0F73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627C1-005F-4495-A403-B53DE129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7047E-C559-4C4F-A688-17CE4803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56E-F414-4F81-A01C-2007796C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3045D-4BFD-49D3-AFEF-D4139768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A7451-209A-4F0B-BE0E-88C43024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86A17-CC21-4F84-9FF1-A8FFDC7A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91E1-905A-430A-BBBD-F6FFBCFA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ADBC4-29BE-4143-933E-0531AC7F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D1776-1E3F-410E-BA66-9F81D228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09526-5507-47E2-86B1-0046847D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4E831-63E8-4E96-8858-22AF1623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D1964-D83F-42ED-9E87-62196CB1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354F6-FA00-441E-9D03-3096D852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D4F-6547-40F6-A9D4-71BE530F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CE51D-6FFF-40A3-8EDF-25AA9C7B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C2B54-5EEA-4591-B39F-177C45DB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AB806-27C0-4BE8-9396-7EA76BF4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51862-6960-4AC1-A080-981523D4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7304F-152A-4AA0-814D-9F894B4E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A9F47-123A-46C8-B43E-9ABDCAB6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F8BF1-04CC-48EF-A1D3-977B5763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A6DC2-0D8F-44D6-B7DF-66B93D61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64883-C3C6-4B65-B36D-23E137C6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4EF20-51EA-4526-90CE-C9959E9C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3FD-D63C-40EF-B2C1-3A003442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74BF0-269F-49CD-AD0D-4E85EB14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43431-3F2E-40E8-8B81-90BA4B2C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DBCDB-03F1-4AC6-97D2-6B47B74F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1F3-A3E6-4885-A105-62678AC4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13A-AB7A-494C-B192-183B25B6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B38B-7C74-49C0-9AC4-742C1D24B5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-15840" y="0"/>
            <a:ext cx="9172440" cy="2819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2132-09D0-4EF7-9858-65569BB161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AA09-734B-4A85-AEFE-ECDB73744C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DBC5-05F3-487A-856A-F5AF8FB2BD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FD47-271F-4C95-BB8C-67E1373765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90560" y="2285640"/>
            <a:ext cx="6180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ROLE OF MEDICAL ANTHROPOLOGY IN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62160" y="4038480"/>
            <a:ext cx="4771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haduz Zaman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castle University, 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2"/>
          <p:cNvGraphicFramePr/>
          <p:nvPr/>
        </p:nvGraphicFramePr>
        <p:xfrm>
          <a:off x="0" y="11592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59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lanator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llness 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y cau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ational for choosing heal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act on li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allel health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Diagram 1" descr=""/>
          <p:cNvPicPr/>
          <p:nvPr/>
        </p:nvPicPr>
        <p:blipFill>
          <a:blip r:embed="rId1"/>
          <a:stretch/>
        </p:blipFill>
        <p:spPr>
          <a:xfrm>
            <a:off x="1030320" y="176040"/>
            <a:ext cx="8126280" cy="646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Diagram 1" descr=""/>
          <p:cNvPicPr/>
          <p:nvPr/>
        </p:nvPicPr>
        <p:blipFill>
          <a:blip r:embed="rId1"/>
          <a:stretch/>
        </p:blipFill>
        <p:spPr>
          <a:xfrm>
            <a:off x="-12600" y="115920"/>
            <a:ext cx="913284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agram 1" descr=""/>
          <p:cNvPicPr/>
          <p:nvPr/>
        </p:nvPicPr>
        <p:blipFill>
          <a:blip r:embed="rId1"/>
          <a:stretch/>
        </p:blipFill>
        <p:spPr>
          <a:xfrm>
            <a:off x="-64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edu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11488b"/>
                </a:solidFill>
                <a:latin typeface="Calibri"/>
              </a:rPr>
              <a:t>How population developed health percep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Content Placeholder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810108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is therefore important to consider the following question while thinking of  policies in health interven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Diagram 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62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 Medicine and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600200"/>
          <a:ext cx="822960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ce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and Healt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rp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Promotion and Disease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Diagram 1" descr=""/>
          <p:cNvPicPr/>
          <p:nvPr/>
        </p:nvPicPr>
        <p:blipFill>
          <a:blip r:embed="rId1"/>
          <a:stretch/>
        </p:blipFill>
        <p:spPr>
          <a:xfrm>
            <a:off x="1116000" y="-12600"/>
            <a:ext cx="8028000" cy="688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omedicine and Medical set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spital Ethn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Content Placeholder 3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53276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ine t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83236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policy situ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Triangl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Content Placeholder 3" descr=""/>
          <p:cNvPicPr/>
          <p:nvPr/>
        </p:nvPicPr>
        <p:blipFill>
          <a:blip r:embed="rId1"/>
          <a:stretch/>
        </p:blipFill>
        <p:spPr>
          <a:xfrm>
            <a:off x="914400" y="1420920"/>
            <a:ext cx="77724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al hist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fluhospital2"/>
          <p:cNvPicPr/>
          <p:nvPr/>
        </p:nvPicPr>
        <p:blipFill>
          <a:blip r:embed="rId1"/>
          <a:stretch/>
        </p:blipFill>
        <p:spPr>
          <a:xfrm>
            <a:off x="762120" y="2362320"/>
            <a:ext cx="7696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aster  ( Natural and Man Ma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578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88b"/>
                </a:solidFill>
                <a:latin typeface="Calibri"/>
              </a:rPr>
              <a:t>How Medical Anthropology contributes in public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ontent Placeholder 9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6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28600" y="115920"/>
          <a:ext cx="8915400" cy="68342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13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als wit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ic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comes to the provi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goes to the c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ilosop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jec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e, Surgery. Gynec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y, Statistics, Economics, Anthropology, Political scie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Content Placeholder 3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1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Diagram 1" descr=""/>
          <p:cNvPicPr/>
          <p:nvPr/>
        </p:nvPicPr>
        <p:blipFill>
          <a:blip r:embed="rId1"/>
          <a:stretch/>
        </p:blipFill>
        <p:spPr>
          <a:xfrm>
            <a:off x="109440" y="176040"/>
            <a:ext cx="8858520" cy="657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440" y="5013000"/>
            <a:ext cx="5486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cial determinants of Heal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Placeholder 4" descr=""/>
          <p:cNvPicPr/>
          <p:nvPr/>
        </p:nvPicPr>
        <p:blipFill>
          <a:blip r:embed="rId1"/>
          <a:stretch/>
        </p:blipFill>
        <p:spPr>
          <a:xfrm>
            <a:off x="1187280" y="690480"/>
            <a:ext cx="6769440" cy="4106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ying attention to Causes of Causes’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Medical Anthropologists do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peoples health seeking behaviour and parallel health se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ibutes in developing and communicating health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ies to understand biomedicine and medical sett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the social, political and economic health policy environ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earn about medical histo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elps to find out ways to deal with disaster situ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s Health seeking behavi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1488b"/>
                </a:solidFill>
                <a:latin typeface="Comic Sans MS"/>
              </a:rPr>
              <a:t>Medical  Pluralism </a:t>
            </a:r>
            <a:r>
              <a:rPr b="0" lang="en-GB" sz="4400" spc="-1" strike="noStrike">
                <a:solidFill>
                  <a:srgbClr val="11488b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514600" y="1219320"/>
            <a:ext cx="4267080" cy="2684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pular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85800" y="3870360"/>
            <a:ext cx="3886200" cy="2128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fression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572000" y="3429000"/>
            <a:ext cx="350532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lk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267080" y="5334120"/>
            <a:ext cx="12956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410080" y="5791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ssible overl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2057040" y="1523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0" y="137160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ndiv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3962520" y="3429000"/>
            <a:ext cx="753840" cy="21128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7238880" y="1523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238880" y="152388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t part of official medical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25"/>
          <p:cNvSpPr/>
          <p:nvPr/>
        </p:nvSpPr>
        <p:spPr>
          <a:xfrm flipV="1">
            <a:off x="6781680" y="2924280"/>
            <a:ext cx="1067040" cy="14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304920" y="6324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gally sanctio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27"/>
          <p:cNvSpPr/>
          <p:nvPr/>
        </p:nvSpPr>
        <p:spPr>
          <a:xfrm flipH="1">
            <a:off x="1523520" y="4876920"/>
            <a:ext cx="83844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2:02:04Z</dcterms:created>
  <dc:creator/>
  <dc:description/>
  <dc:language>en-US</dc:language>
  <cp:lastModifiedBy/>
  <dcterms:modified xsi:type="dcterms:W3CDTF">2013-12-08T19:16:59Z</dcterms:modified>
  <cp:revision>1</cp:revision>
  <dc:subject/>
  <dc:title/>
</cp:coreProperties>
</file>